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B5C-4371-4798-9A62-EFE5A1B56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49BD-A846-4D94-BDB8-74639E7FF1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A99-8682-48FF-95C7-58C0EE0C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C5C-1B15-4FBE-A6D4-E289E37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C34-847F-44C4-AF7F-AF30B5D4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706-C50D-43F5-A5E1-94F1DBD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77B-16CD-48AB-90B6-A7A7208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DDE3-2A46-4BAC-921C-272BEC18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DAB-C2C1-4C80-BED8-EEAF2D4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AA3-4470-49C5-B9B9-23B93AD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B787-6519-4366-97CD-4B129CF8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5DC-0237-4855-ABBF-F9FFD53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2AD5-9EBA-49A1-BF98-ABDC917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6DF-7DC3-4FF1-A77F-A5B620CA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D030-4A7B-4AF8-B522-57D595D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396-55D8-454F-892C-5DA0225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1AF-4D50-4B1C-B0A8-ED479CD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DBEA-4C54-40D3-BBC5-3BD8F7B1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BD3-454F-407A-B62F-3CD46F4C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543-A116-4420-9DDB-0A73FD8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9EF-2406-4859-9D43-6EE19E6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A9A-A27D-474E-BB73-8D62B25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3CB-03A4-43DE-8DD2-0DF76E9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D70-F221-42B5-84D7-A1487B3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409-10B5-457A-A8B9-E479FF8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601-611F-46BD-8630-1712598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9DBC-FFAD-45C9-A835-12BD808DF71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E806-13F9-4FF4-98EB-6921FBBA8EB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rds.yahoo.com/_ylt=A0geu9gGGLVJeEMB_pNXNyoA;_ylu=X3oDMTBscWN2ZnBjBHNlYwNzYwRjb2xvA2FjMgR2dGlkAw--/SIG=1h0aihtm4/EXP=1236691334/**http:/images.search.yahoo.com/images/view?back=http%3A%2F%2Fsearch.yahoo.com%2Fsearch%3Fei%3DUTF-8%26p%3Dgatorade&amp;w=2232&amp;h=2100&amp;imgurl=www.gwntriathlon.com%2Fimages%2FGatoradeLogo_Litho1.jpg&amp;size=256.8kB&amp;name=GatoradeLogo_Litho1.jpg&amp;rcurl=http%3A%2F%2Fboyerrob.blogspot.com%2F&amp;rurl=http%3A%2F%2Fboyerrob.blogspot.com%2F&amp;p=gatorade&amp;type=jpeg&amp;no=1&amp;tt=86%2C741&amp;oid=59c2f9d1c9757bf0&amp;tit=GatoradeLogo_Litho1.jpg&amp;sigr=10tmp9piu&amp;sigi=11j6n3qs3&amp;sigb=11imbb61l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rds.yahoo.com/_ylt=A0geu7CeGLVJNa4A0rVXNyoA;_ylu=X3oDMTBscWN2ZnBjBHNlYwNzYwRjb2xvA2FjMgR2dGlkAw--/SIG=1mlraaof4/EXP=1236691486/**http:/images.search.yahoo.com/images/view?back=http%3A%2F%2Fsearch.yahoo.com%2Fsearch%3Fei%3DUTF-8%26p%3Dathlete%2Bimage&amp;w=225&amp;h=290&amp;imgurl=a1608.g.akamai.net%2F7%2F1608%2F1365%2F893a9d8274ceac%2Faway.com%2Fimages%2Foutside%2F200509%2Fself-repair-athlete.jpg&amp;size=24.7kB&amp;name=self-repair-athlete.jpg&amp;rcurl=http%3A%2F%2Foutside.away.com%2Foutside%2Fbodywork%2F200509%2Finjury-repair.html&amp;rurl=http%3A%2F%2Foutside.away.com%2Foutside%2Fbodywork%2F200509%2Finjury-repair.html&amp;p=athlete&amp;type=jpeg&amp;no=2&amp;tt=930%2C911&amp;oid=5343b605917ba218&amp;tit=self-repair-athlete.jpg&amp;sigr=122e57ocn&amp;sigi=134rvigi7&amp;sigb=11n0giifh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14360" y="914400"/>
            <a:ext cx="8242200" cy="245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science behind the sport drink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will see what makes a sport good for energy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earn what is in a sport drink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t’s get started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6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et two sport drinks.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ee what makes a sports drink better tha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7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100px-Spon_PoweradeLogo"/>
          <p:cNvPicPr/>
          <p:nvPr/>
        </p:nvPicPr>
        <p:blipFill>
          <a:blip r:embed="rId3"/>
          <a:stretch/>
        </p:blipFill>
        <p:spPr>
          <a:xfrm>
            <a:off x="1219320" y="48769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ww.gwntriathlon.com/images/GatoradeLogo_Litho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48769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ORT DRINKS HAVE CARBONHYDRATES  &amp; ELECTROLYTES TO REPLACE LOST BODY SALT AND REPLENISH MUSCLE  ENERG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4" descr="a1608.g.akamai.net/7/1608/1365/893a9d8274ceac/away.com/images/outside/200509/self-repair-athlet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419720"/>
            <a:ext cx="1676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508120"/>
            <a:ext cx="7924680" cy="23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fter finding all the things that keep you energized I have evidence that sports drinks are better than water when it comes to getting physica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www.maplejt.com/images/sponsors/Gatorade_l.jpg"/>
          <p:cNvPicPr/>
          <p:nvPr/>
        </p:nvPicPr>
        <p:blipFill>
          <a:blip r:embed="rId3"/>
          <a:stretch/>
        </p:blipFill>
        <p:spPr>
          <a:xfrm>
            <a:off x="2209680" y="4876920"/>
            <a:ext cx="510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7412040" cy="1987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ing water and sports drinks is a simple task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one water only has…just water in it with some other mineral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0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orts drinks have electrolytes, iron, vitamins, and potassium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PE YOU ENJOYED!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21:13Z</dcterms:created>
  <dc:creator>MNPS Student</dc:creator>
  <dc:description/>
  <dc:language>en-US</dc:language>
  <cp:lastModifiedBy>aselby</cp:lastModifiedBy>
  <dcterms:modified xsi:type="dcterms:W3CDTF">2009-03-09T19:47:13Z</dcterms:modified>
  <cp:revision>6</cp:revision>
  <dc:subject/>
  <dc:title>Sport Drinks !!</dc:title>
</cp:coreProperties>
</file>